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4B53-1CA8-4BBA-9932-0B4F0592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E25C-6D8C-4F5A-B90F-7D192906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83FE-35F3-46E2-8B19-742B549A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51C-0075-4250-A9F5-19B30E3E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9091-0755-4915-B07A-4E9BB91C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747E-E0E3-48ED-B3AF-ED5D2FC3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4399-CF84-496D-833F-DA6532A2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1E7A-88EE-4AB3-A5EF-489ECB4F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090C-77E8-4A06-AE07-659FD2AF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465B-05C9-4E79-9C08-31885FB3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DD3F-2EE2-4E08-9E81-E86F3E91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38C6-CBA5-4E9E-8CF3-02848674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8FAF-32E3-4828-962F-54CC0479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EA6B-96EB-4E02-A360-64F0D2B1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C192-E8C0-4411-A9DB-491E7199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E494-0F35-40D8-BA8D-7C00F41D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7C9D-4541-49C4-90C6-10DB018F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F8F-AA52-4A96-B3B7-B4373D68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FEA0-99D7-4C97-90C9-2C19817A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F0F-7A8E-4F66-9D8C-134DC1E5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986-6EFE-4B03-A6AD-93A3B116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38D-433E-43B4-AD91-2DC7C2D9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8A0-E2E4-455B-A75B-1978E3A4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3B5-7D86-4540-AB90-9F17F4BC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8225-3C4F-42AB-A626-831C38D27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539D-DCA8-4090-9C38-83F3F73F5B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560" y="3573000"/>
            <a:ext cx="784404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Тема: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ccecff"/>
                </a:solidFill>
                <a:latin typeface="Arial"/>
              </a:rPr>
              <a:t>Компьютерные игры, как средство развития математических представлений у детей дошкольного возраста.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156360" y="55440"/>
            <a:ext cx="2592360" cy="1717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2160720" cy="15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сновной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989000"/>
            <a:ext cx="2448000" cy="396108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участни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Анализ проблем, формулировка зада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Выбор критериев оценивания результа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Систематизировать план конкретных дей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4720" y="1989000"/>
            <a:ext cx="2448000" cy="388800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педагог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Помогает в анализе, наблюдает, контролиру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Формирует необходимые умения и 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32000" y="1989000"/>
            <a:ext cx="2880000" cy="39610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Планирование действий по разрешение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агматический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1844640"/>
            <a:ext cx="2232000" cy="417672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участни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Выполняют исследование.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40360" y="1989000"/>
            <a:ext cx="2448000" cy="403236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педагог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Наблюдает, консультирует, контролиру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16360" y="1700280"/>
            <a:ext cx="3024000" cy="43210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Поиск информации, которая обрабатывается, осмысливается и представля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ключительный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1844640"/>
            <a:ext cx="144720" cy="71640"/>
          </a:xfrm>
          <a:custGeom>
            <a:avLst/>
            <a:gdLst>
              <a:gd name="textAreaLeft" fmla="*/ 4320 w 144720"/>
              <a:gd name="textAreaRight" fmla="*/ 140400 w 14472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43524" h="21600">
                <a:moveTo>
                  <a:pt x="0" y="0"/>
                </a:moveTo>
                <a:lnTo>
                  <a:pt x="43524" y="0"/>
                </a:lnTo>
                <a:lnTo>
                  <a:pt x="43524" y="21600"/>
                </a:lnTo>
                <a:lnTo>
                  <a:pt x="0" y="21600"/>
                </a:lnTo>
                <a:close/>
              </a:path>
              <a:path fill="lightenLess" w="43524" h="21600">
                <a:moveTo>
                  <a:pt x="0" y="0"/>
                </a:moveTo>
                <a:lnTo>
                  <a:pt x="43524" y="0"/>
                </a:lnTo>
                <a:lnTo>
                  <a:pt x="42124" y="1400"/>
                </a:lnTo>
                <a:lnTo>
                  <a:pt x="1400" y="1400"/>
                </a:lnTo>
                <a:close/>
              </a:path>
              <a:path fill="darken" w="43524" h="21600">
                <a:moveTo>
                  <a:pt x="43524" y="0"/>
                </a:moveTo>
                <a:lnTo>
                  <a:pt x="43524" y="21600"/>
                </a:lnTo>
                <a:lnTo>
                  <a:pt x="42124" y="20200"/>
                </a:lnTo>
                <a:lnTo>
                  <a:pt x="42124" y="1400"/>
                </a:lnTo>
                <a:close/>
              </a:path>
              <a:path fill="darkenLess" w="43524" h="21600">
                <a:moveTo>
                  <a:pt x="43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124" y="20200"/>
                </a:lnTo>
                <a:close/>
              </a:path>
              <a:path fill="lighten" w="43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989000"/>
            <a:ext cx="2376360" cy="396108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участни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Оформляют проект, изготавливают проду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Анализируют выполненный про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Выясняют причины успехов, неуда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56360" y="2060640"/>
            <a:ext cx="2232000" cy="396072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педагог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Наблюдает, совету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Помогает в обеспечении про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59280" y="1916280"/>
            <a:ext cx="3025440" cy="41050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Анализ хода и результатов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тоговый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1989000"/>
            <a:ext cx="2592360" cy="396108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участни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щищают про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0360" y="2133720"/>
            <a:ext cx="2592360" cy="381636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педагог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Участвует в коллективном анализе и оценке результа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48000" y="1916280"/>
            <a:ext cx="2519280" cy="38178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Представление готового продук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просы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акое значение играют компьютерные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акие компьютерные  игры необходимо использовать в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акие математические представления необходимо развивать у детей дошкольного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ак необходимо организовывать деятельность детей для развития математических представлений посредством компьютерных игр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акие компьютерные игры способствуют развитию математических представлений детей дошкольного возраст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3683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частники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дагоги и студенты педагогических учебных завед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42498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Цель проекта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ть знания педагогам и студентам о компьютерных играх как средстве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звития математических представлений у детей дошкольного возраста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516720" y="260280"/>
            <a:ext cx="2376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и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Сформировать представления педагогов и студентов  о компьютерных играх, как средстве развития математических представлений у детей дошкольного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аучить использовать средств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звития математических представлений у детей дошкольного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казать практическое значение использования компьютерных игр, как средства развития математических представлений у детей дошкольного возраст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22320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одержание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 данном проекте рассматриваются проблемы использования компьютерных игр для развития математических представлений. Значение использования компьютерных игр, развитие математических представлений детей дошкольного возраста, также применение компьютерных игр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лан проведения рабо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ать знания педагогам и студентам  о компьютерных играх, как средстве развития математических представлений у детей дошкольного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651640" y="400536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Этапы работы над проектом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ициирующ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ополагающ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гмат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лючите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тогов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нициирующий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2421000"/>
            <a:ext cx="3672000" cy="3168720"/>
          </a:xfrm>
          <a:prstGeom prst="leftRightArrow">
            <a:avLst>
              <a:gd name="adj1" fmla="val 50000"/>
              <a:gd name="adj2" fmla="val 23069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Определение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Формулирование вопро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1280" y="2708280"/>
            <a:ext cx="2089080" cy="324180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участни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Определение темы, уточнение ц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Выбор рабочей груп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16720" y="2708280"/>
            <a:ext cx="1942920" cy="324180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педагог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Мотивирует учащихся, объясняет цели, наблюд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Ставит цели и задачи обучения, развития, вос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09:33:28Z</dcterms:created>
  <dc:creator>Студент</dc:creator>
  <dc:description/>
  <dc:language>en-US</dc:language>
  <cp:lastModifiedBy>Наташа</cp:lastModifiedBy>
  <dcterms:modified xsi:type="dcterms:W3CDTF">2009-05-22T15:00:18Z</dcterms:modified>
  <cp:revision>9</cp:revision>
  <dc:subject/>
  <dc:title>Тема: Компьютерные игры, как средство развития математических представлений у детей дошкольного возраста. </dc:title>
</cp:coreProperties>
</file>